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AD1-F5A2-4E89-802A-864BC7E0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F5D-45CA-4377-BC7B-ED76345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2C6-56F5-40D0-9B61-B8704B7C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27F-67C8-4D98-8358-635155C0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B18-2DC3-456A-B2C2-A827A82B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794-C746-4A6E-BE66-07D26966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D23-EA2C-4C59-AC56-BDC59CB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B7A-CB92-4029-9003-07A2836B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DD0-43B2-4A23-93F0-A4B40645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364-8FF0-464B-83F7-D0374FF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C7E-8673-4B0F-9784-9D9BBC0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2A7-9EF5-46DA-AD8D-244F140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B7F6-28DB-471C-AA86-59179B89B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266480" y="990720"/>
            <a:ext cx="68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pple Casual"/>
                <a:ea typeface="Apple Casual"/>
              </a:rPr>
              <a:t>The Lifecycle of Mos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8580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y Documents\Biology 11\Moss\lifecycle2.jpg"/>
          <p:cNvPicPr/>
          <p:nvPr/>
        </p:nvPicPr>
        <p:blipFill>
          <a:blip r:embed="rId1"/>
          <a:stretch/>
        </p:blipFill>
        <p:spPr>
          <a:xfrm>
            <a:off x="457200" y="304920"/>
            <a:ext cx="8415360" cy="6234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352680" y="2362320"/>
            <a:ext cx="3353040" cy="1922760"/>
          </a:xfrm>
          <a:prstGeom prst="rect">
            <a:avLst/>
          </a:prstGeom>
          <a:gradFill rotWithShape="0">
            <a:gsLst>
              <a:gs pos="0">
                <a:srgbClr val="f0f0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ure male &amp; female moss plant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meteoph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y produ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gg or spe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447920" y="4876920"/>
            <a:ext cx="2438280" cy="1600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6"/>
          <p:cNvSpPr/>
          <p:nvPr/>
        </p:nvSpPr>
        <p:spPr>
          <a:xfrm flipH="1">
            <a:off x="2819160" y="4343400"/>
            <a:ext cx="53316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My Documents\Biology 11\Moss\lifecycle2.jpg"/>
          <p:cNvPicPr/>
          <p:nvPr/>
        </p:nvPicPr>
        <p:blipFill>
          <a:blip r:embed="rId1"/>
          <a:stretch/>
        </p:blipFill>
        <p:spPr>
          <a:xfrm>
            <a:off x="457200" y="304920"/>
            <a:ext cx="8415360" cy="6234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3733920" y="2286000"/>
            <a:ext cx="4800600" cy="228852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ure sperm leav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heri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swim through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m of 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ertilize the eggs found in a structure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egon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ater must be present for successful fertiliz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533520" y="3657600"/>
            <a:ext cx="198108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2590920" y="3276720"/>
            <a:ext cx="1066680" cy="914400"/>
          </a:xfrm>
          <a:prstGeom prst="leftArrow">
            <a:avLst>
              <a:gd name="adj1" fmla="val 50000"/>
              <a:gd name="adj2" fmla="val 291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My Documents\Biology 11\Moss\lifecycle2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160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4114800" y="228600"/>
            <a:ext cx="4800600" cy="1557000"/>
          </a:xfrm>
          <a:prstGeom prst="rect">
            <a:avLst/>
          </a:prstGeom>
          <a:gradFill rotWithShape="0">
            <a:gsLst>
              <a:gs pos="0">
                <a:srgbClr val="ece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ertilized egg is called a zygot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. The fertilized egg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spor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gins to g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52280" y="380880"/>
            <a:ext cx="609840" cy="762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761760" y="838080"/>
            <a:ext cx="3429000" cy="609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My Documents\Biology 11\Moss\lifecycle.jpg"/>
          <p:cNvPicPr/>
          <p:nvPr/>
        </p:nvPicPr>
        <p:blipFill>
          <a:blip r:embed="rId2"/>
          <a:stretch/>
        </p:blipFill>
        <p:spPr>
          <a:xfrm>
            <a:off x="4343400" y="2657520"/>
            <a:ext cx="4800600" cy="4200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5181480" y="2666880"/>
            <a:ext cx="1981440" cy="1371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5410080" y="1371600"/>
            <a:ext cx="685800" cy="1295280"/>
          </a:xfrm>
          <a:prstGeom prst="downArrow">
            <a:avLst>
              <a:gd name="adj1" fmla="val 50000"/>
              <a:gd name="adj2" fmla="val 472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1447920" y="923760"/>
            <a:ext cx="6781680" cy="5934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267080" y="990720"/>
            <a:ext cx="91440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33720" y="0"/>
            <a:ext cx="4800600" cy="8254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rtilized egg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spor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gins to g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914400" y="57240"/>
            <a:ext cx="7772400" cy="6800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6172200" y="0"/>
            <a:ext cx="2362320" cy="99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09680" y="2057400"/>
            <a:ext cx="5257800" cy="825480"/>
          </a:xfrm>
          <a:prstGeom prst="rect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The final result is a spore capsule on the top of a thin stal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5486400" y="990360"/>
            <a:ext cx="762120" cy="11430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-8458200" y="0"/>
            <a:ext cx="12420720" cy="10868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952880" y="533520"/>
            <a:ext cx="144792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s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971800" y="457200"/>
            <a:ext cx="1981080" cy="762120"/>
          </a:xfrm>
          <a:prstGeom prst="rightArrowCallout">
            <a:avLst>
              <a:gd name="adj1" fmla="val 25002"/>
              <a:gd name="adj2" fmla="val 25000"/>
              <a:gd name="adj3" fmla="val 43324"/>
              <a:gd name="adj4" fmla="val 6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676520" y="228600"/>
            <a:ext cx="914400" cy="12952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2590920" y="1295280"/>
            <a:ext cx="2361960" cy="457200"/>
          </a:xfrm>
          <a:prstGeom prst="rightArrow">
            <a:avLst>
              <a:gd name="adj1" fmla="val 50000"/>
              <a:gd name="adj2" fmla="val 12915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029200" y="1233360"/>
            <a:ext cx="33526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ure sporoph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2590920" y="1981080"/>
            <a:ext cx="914400" cy="15242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029200" y="2300400"/>
            <a:ext cx="33526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gametoph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3581280" y="236232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105520" y="3429000"/>
            <a:ext cx="3352680" cy="3080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ores in the capsule are produc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aploid). A cover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lls off the capsule. Next,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rops off  to release the sp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2362320" y="4952880"/>
            <a:ext cx="2743200" cy="533520"/>
          </a:xfrm>
          <a:prstGeom prst="rightArrow">
            <a:avLst>
              <a:gd name="adj1" fmla="val 50000"/>
              <a:gd name="adj2" fmla="val 1285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0" y="380880"/>
            <a:ext cx="6477120" cy="566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553080" y="380880"/>
            <a:ext cx="22860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,8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ores that land in a suitable area will begin to germinat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gamet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Most spores would not germi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6095880" y="4114800"/>
            <a:ext cx="1905120" cy="1447920"/>
          </a:xfrm>
          <a:custGeom>
            <a:avLst/>
            <a:gdLst>
              <a:gd name="textAreaLeft" fmla="*/ 271800 w 1905120"/>
              <a:gd name="textAreaRight" fmla="*/ 1632960 w 1905120"/>
              <a:gd name="textAreaTop" fmla="*/ 827280 h 1447920"/>
              <a:gd name="textAreaBottom" fmla="*/ 1241280 h 1447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ide the details for each step in the Life Cycle of Mosse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2819520" y="1095480"/>
            <a:ext cx="6324480" cy="553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2:21:10Z</dcterms:created>
  <dc:creator>Student</dc:creator>
  <dc:description/>
  <dc:language>en-US</dc:language>
  <cp:lastModifiedBy>Jillian Boisse</cp:lastModifiedBy>
  <dcterms:modified xsi:type="dcterms:W3CDTF">2014-10-01T15:15:20Z</dcterms:modified>
  <cp:revision>13</cp:revision>
  <dc:subject/>
  <dc:title>No Slide Title</dc:title>
</cp:coreProperties>
</file>